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51.png" ContentType="image/png"/>
  <Override PartName="/ppt/media/image40.png" ContentType="image/png"/>
  <Override PartName="/ppt/media/image52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8D6-1153-4D07-9518-C8B3E55DD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404-9351-4517-B589-39A99557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panoul de activitati sablonul apar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lectat in ch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749-2913-4C22-BCE1-4864986E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lectarea aspectului primului diapozit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.De regula primul diapozitiv al prezentarii contin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itlul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cesteia si un eventu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ubtitlu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In diapozitivele urmatoare se poate introduc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u ,pe coloane,cu marcatori de lis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 pot import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agini ,tabele,grafi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asindu-le  in locul prestabili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au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plasindu-le prin drag and dr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 poate renunta la unul din tre elementele sablonului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c+Del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C13-3EB7-4E37-B7BD-3CC73EE7C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blonul de form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lectat apare in ch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58E-DDD6-43DB-A2F4-1FEE6392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1CD-CADE-4AEF-A5A0-B8315A9C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17DF4-D287-4E77-A082-680099B9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30886-35B8-41B3-A661-119E31A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ADDB0-E062-4B44-8CE4-C5DE7E09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6A5A3-B7DD-44EC-AD4D-D3DA699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21F3B-45FB-406D-9E0D-56F64AE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D68A4-1A75-49A1-937A-6A9525D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D4A86-2C6F-4ED7-843D-95169751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C1211-553C-475E-B656-CF361A5D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941EA-0D16-439D-8142-F5899CEB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5EC-D1DA-4CA1-9A2D-D75D45AA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D8C-AD87-444D-A687-1299F3EE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76A-04F7-46E6-A442-AE463FB5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A04-ED2C-405B-A41C-0A20BB3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707F-0847-49B6-8E05-1ED08D8F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03C-6E55-416C-8404-7F0455C1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001A-901A-406B-A1A4-FADE225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86DC-F214-44B2-AA1A-97D4D2D7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5E89-5FAD-4E05-857B-573FB77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ED5-B157-4091-9DFF-5BD8DA0D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1AC-73C4-4DD5-881F-BC4D4D4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9BAF-DB81-41C9-86C6-D482A79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5FE1-808F-4E1F-8438-3A5D8C6D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A2BF-0513-4CA4-BE4C-8D93F8F5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42FF-653A-4B36-A3A3-6798D44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F603-D39F-45D5-A436-2E5D4893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ADCC-61C1-4D46-9D9A-7D579A0A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D1A0-4269-4257-B0CA-D935128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CEFC-ADC2-476B-A4A5-C861DAC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7C25-2CFE-4BEC-97FB-6C0C00C5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2AE-DA92-4AF1-B7DC-15607F19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B8E1-71A5-40E8-9AD6-4E5CD74C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6344-E310-49A3-9CB9-14930B3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0603-689E-4CC0-A6F5-062D0A24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352A-C36A-47C8-A4F7-2BD64C9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2292-1F7A-4AEC-847B-AA620556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AE7F-EC86-4A49-B0CE-C7A29CD0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B347-A646-4178-9A76-7B7161AA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E2BB-3BE0-4944-AEFB-3EB82FC1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3B4D-7431-4EEE-BF1D-5B5A1FFA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8FEA-5DBA-468F-AC3A-ED36EDF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74A-D75F-4A19-B405-EB8C261B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3CA8-D1EC-458D-BDF6-3A1B49B1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C7CD-00BA-4BE9-9C2D-ABEA71F0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D357-2CDC-4902-9E53-9F5C253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BAE2-C310-47FF-8AC0-9D54DEE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6AA9-007C-493E-B589-E52B03D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CCCC-1E20-4A4F-A3C5-3C7C4DB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CA08-DA69-4111-AF36-4829BFF3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EB06-9898-46D1-9507-B85AD6A5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D342-7E71-4BCF-9855-3F1BBFAE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FDC8-772C-43E8-A89F-4EF4CA14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A71-95A4-4237-A13D-1F57AD7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9AAA-6454-44D7-8FCE-946837C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3A6B-93F2-4065-80A5-9108480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B2A1E-B895-4194-9F11-A208AB9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7098-608C-46FB-8025-C44C3384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7D17-427D-40D9-AD19-A8037D1D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87CB-C490-4DA4-826F-AF4B04C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B76E-7AC9-491E-8BFE-48A6026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B2A5-E46D-447A-AF80-886E488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7304-DAC1-4D19-A9B4-248B2793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7FF40-5918-4211-B8C6-8B360081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CA8-3049-4590-8AF9-E0E4817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1DE4-698C-4200-B5C1-51BC3F67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8B33-54E9-4F2F-820D-B7C7EEEB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86AA-21CB-4872-8B63-AD85ECD0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955B-3FD0-4B4C-98D0-86AAB4A2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96289-9F52-4327-BD10-6C2B6FB6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E96AB-48FC-410D-87D6-CC88CA4E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2B2C-0304-46FC-B1FE-FC000FF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C6EB-CA9F-4FCA-9D2B-EE3D07AB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333A-5B24-4A83-8ED6-A26D89A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FE35-7016-4B1F-B85E-4D638F3A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A72-3A9D-4715-ADC2-3F969A6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7285-1DFC-4B2F-B3CA-33A1BA59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956A-B562-476D-A4BF-E99E0A3B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43B7-49B1-4928-9A41-2F8544D3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CF805-6293-4D27-AD48-55A065DC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0DAB2-C82F-40E5-873D-0099149E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73F0-B8BD-4D43-BFE8-08BB32E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1F736-560B-44C1-B09D-19AC75E6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8B8A1-7D91-4CE8-9DCB-443E23A6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F70D-F1D3-4412-B434-30F4E53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2056-FF0C-4985-8243-9B31F1F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D30-4C0B-451D-861E-72E404E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0FE2-64D5-4B88-B378-DE950754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6CE2-D468-4529-81D4-904AB95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5162-730C-4EF9-9B70-48CB7104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6C596-DB0F-4FD2-BCB9-78F50BC3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FD56-2554-4DC4-9EEC-4976156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8B719-3AFC-4258-84FB-CAB80CA1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17E3D-A53B-4D95-BA15-B1851E2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C3BF4-42CD-45A2-AA6F-607E17A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B198-A776-4969-97F5-6E4BCE73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5056A-C44D-47FF-9CE5-CC262B64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234-A56B-4521-82DB-DF85A6D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2903-9F98-41A9-869E-6EA809F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FFF0-BE6D-42A8-ACFC-A6475E3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02AE3-9805-4BF9-9D45-C500C887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E9630-1777-4DCB-8137-A85302B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9D2B8-58FD-4043-91CC-50E60B2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0B15-806E-46F9-9377-94A96CC6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E5801-A94F-451B-85B8-E508C354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0C1C7-4AEF-4398-A1BB-179ABC6C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148CF-3430-40DB-8405-7D154211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0622-5A31-411F-BA8E-2F83943C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694-AC48-4D3E-A3F3-65D31C42DE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80CE-FB9A-4F39-9536-CD1B006A9D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9095-1BE9-405A-B880-71E9B061E9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F0A-28D9-4067-B0A3-93BC52CAEA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0E9F-178C-4480-AB4D-07BE88B4A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8ED-160D-434D-8C58-B385E1A8B6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65C-A6DA-4BD3-AF79-39F4F88004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8A1D-D3E1-40B3-9D06-53F71882C8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F6E-E7EB-40AC-8395-369268D802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C:\Documents and Settings\ik\My Documents\My Pictures\Vulcanii_Noroiosi.exe" TargetMode="External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682560" y="1731960"/>
            <a:ext cx="8120160" cy="18590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44b9e8"/>
                </a:solidFill>
                <a:latin typeface="Lucida Sans Unicode"/>
              </a:rPr>
              <a:t>a)Elemente de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676440" y="1841400"/>
            <a:ext cx="8205480" cy="15541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4"/>
          <p:cNvSpPr/>
          <p:nvPr/>
        </p:nvSpPr>
        <p:spPr>
          <a:xfrm>
            <a:off x="1619280" y="4221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b9e8"/>
                </a:solidFill>
                <a:latin typeface="Arial"/>
              </a:rPr>
              <a:t>b)Inserarea obiectelor intr-un diapozi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Stefan Banica Jr &amp; Horia Brenciu - Mie Dor De Ochii Tai  www.Top-Muzica.ne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Lucida Sans Unicode"/>
              </a:rPr>
              <a:t>Editare directa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n locatiile prestabilite din sablonul de aspec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Lucida Sans Unicode"/>
              </a:rPr>
              <a:t>Introducere de paragraf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realizate cu ajutorul aplicatiilor Word,Notepad,WordPad et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Inserare           caseta tex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P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lic/suprafata diapozitivului           tast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Sans Unicode"/>
              </a:rPr>
              <a:t>V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Utilizarea modulului de lucru </a:t>
            </a:r>
            <a:r>
              <a:rPr b="1" i="1" lang="en-US" sz="2000" spc="-1" strike="noStrike">
                <a:solidFill>
                  <a:srgbClr val="cc3300"/>
                </a:solidFill>
                <a:latin typeface="Lucida Sans Unicode"/>
              </a:rPr>
              <a:t>schi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Obs.Caseta de text poat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Lucida Sans Unicode"/>
              </a:rPr>
              <a:t>fi</a:t>
            </a:r>
            <a:r>
              <a:rPr b="1" i="1" lang="en-US" sz="2000" spc="-1" strike="noStrike">
                <a:solidFill>
                  <a:srgbClr val="da1f28"/>
                </a:solidFill>
                <a:latin typeface="Lucida Sans Unicode"/>
              </a:rPr>
              <a:t>:copiata,stearsa,redimensionata,mutat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a1f28"/>
                </a:solidFill>
                <a:latin typeface="Lucida Sans Unicode"/>
              </a:rPr>
              <a:t>prin drag-and-drop</a:t>
            </a:r>
            <a:r>
              <a:rPr b="1" i="1" lang="ro-RO" sz="20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i="1" lang="en-US" sz="2000" spc="-1" strike="noStrike">
                <a:solidFill>
                  <a:srgbClr val="da1f28"/>
                </a:solidFill>
                <a:latin typeface="Lucida Sans Unicode"/>
              </a:rPr>
              <a:t>decupata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Line 4"/>
          <p:cNvSpPr/>
          <p:nvPr/>
        </p:nvSpPr>
        <p:spPr>
          <a:xfrm>
            <a:off x="1619280" y="2637000"/>
            <a:ext cx="792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"/>
          <p:cNvSpPr/>
          <p:nvPr/>
        </p:nvSpPr>
        <p:spPr>
          <a:xfrm>
            <a:off x="3780000" y="3213000"/>
            <a:ext cx="792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Lucida Sans Unicode"/>
              </a:rPr>
              <a:t>V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Dublu clic/o zona a sablonului de aspect care contine o imagine ( se introduc automat mici </a:t>
            </a:r>
            <a:r>
              <a:rPr b="0" i="1" lang="en-US" sz="2700" spc="-1" strike="noStrike">
                <a:solidFill>
                  <a:srgbClr val="3333cc"/>
                </a:solidFill>
                <a:latin typeface="Lucida Sans Unicode"/>
              </a:rPr>
              <a:t>desene din ClipArt</a:t>
            </a:r>
            <a:r>
              <a:rPr b="0" lang="en-US" sz="2700" spc="-1" strike="noStrike">
                <a:solidFill>
                  <a:srgbClr val="3333cc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"/>
          <p:cNvPicPr/>
          <p:nvPr/>
        </p:nvPicPr>
        <p:blipFill>
          <a:blip r:embed="rId3"/>
          <a:stretch/>
        </p:blipFill>
        <p:spPr>
          <a:xfrm>
            <a:off x="5829480" y="3213000"/>
            <a:ext cx="3063600" cy="3645000"/>
          </a:xfrm>
          <a:prstGeom prst="rect">
            <a:avLst/>
          </a:prstGeom>
          <a:ln w="0">
            <a:noFill/>
          </a:ln>
        </p:spPr>
      </p:pic>
      <p:sp>
        <p:nvSpPr>
          <p:cNvPr id="486" name="Line 6"/>
          <p:cNvSpPr/>
          <p:nvPr/>
        </p:nvSpPr>
        <p:spPr>
          <a:xfrm>
            <a:off x="4932360" y="3068640"/>
            <a:ext cx="798480" cy="720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 flipH="1">
            <a:off x="2987640" y="2060640"/>
            <a:ext cx="1944720" cy="2952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3929040"/>
            <a:ext cx="8497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nserare          Imagine           Miniatura(Insert            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)       Clip Organiz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in Clip Organizer : se selecteaza colectia Office 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e selecteaza mini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piere         lipire   sau drag-and-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"/>
          <p:cNvSpPr/>
          <p:nvPr/>
        </p:nvSpPr>
        <p:spPr>
          <a:xfrm>
            <a:off x="1835280" y="6669000"/>
            <a:ext cx="431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1547640" y="4724280"/>
            <a:ext cx="505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"/>
          <p:cNvSpPr/>
          <p:nvPr/>
        </p:nvSpPr>
        <p:spPr>
          <a:xfrm>
            <a:off x="2987640" y="4797360"/>
            <a:ext cx="6494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"/>
          <p:cNvSpPr/>
          <p:nvPr/>
        </p:nvSpPr>
        <p:spPr>
          <a:xfrm>
            <a:off x="5364000" y="4797360"/>
            <a:ext cx="792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1116000" y="5084640"/>
            <a:ext cx="5047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"/>
          <p:cNvPicPr/>
          <p:nvPr/>
        </p:nvPicPr>
        <p:blipFill>
          <a:blip r:embed="rId1"/>
          <a:stretch/>
        </p:blipFill>
        <p:spPr>
          <a:xfrm>
            <a:off x="0" y="189000"/>
            <a:ext cx="4824360" cy="3324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133800" cy="4133880"/>
          </a:xfrm>
          <a:prstGeom prst="rect">
            <a:avLst/>
          </a:prstGeom>
          <a:ln w="0">
            <a:noFill/>
          </a:ln>
        </p:spPr>
      </p:pic>
      <p:sp>
        <p:nvSpPr>
          <p:cNvPr id="496" name="Line 10"/>
          <p:cNvSpPr/>
          <p:nvPr/>
        </p:nvSpPr>
        <p:spPr>
          <a:xfrm flipV="1">
            <a:off x="2411280" y="907920"/>
            <a:ext cx="3313080" cy="4105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1"/>
          <p:cNvSpPr/>
          <p:nvPr/>
        </p:nvSpPr>
        <p:spPr>
          <a:xfrm flipV="1">
            <a:off x="4643280" y="1915920"/>
            <a:ext cx="1513080" cy="360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713720" cy="52578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179280" y="189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ablon pentru introducerea miniatu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Lucida Sans Unicode"/>
              </a:rPr>
              <a:t>V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Inserare      Imagine      Din fisi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Obs:Imaginile pot fi format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02" name="Line 4"/>
          <p:cNvSpPr/>
          <p:nvPr/>
        </p:nvSpPr>
        <p:spPr>
          <a:xfrm>
            <a:off x="2987640" y="1916280"/>
            <a:ext cx="576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"/>
          <p:cNvSpPr/>
          <p:nvPr/>
        </p:nvSpPr>
        <p:spPr>
          <a:xfrm>
            <a:off x="5076720" y="1916280"/>
            <a:ext cx="5749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826920" y="31417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serarea formelor auto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95280" y="4437000"/>
            <a:ext cx="77058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/Inserare forme autom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i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iguri geomet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ec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ut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4932360" y="4941720"/>
            <a:ext cx="1392120" cy="3589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77" h="226">
                <a:moveTo>
                  <a:pt x="0" y="226"/>
                </a:moveTo>
                <a:cubicBezTo>
                  <a:pt x="143" y="184"/>
                  <a:pt x="287" y="143"/>
                  <a:pt x="408" y="136"/>
                </a:cubicBezTo>
                <a:cubicBezTo>
                  <a:pt x="529" y="129"/>
                  <a:pt x="650" y="196"/>
                  <a:pt x="726" y="181"/>
                </a:cubicBezTo>
                <a:cubicBezTo>
                  <a:pt x="802" y="166"/>
                  <a:pt x="847" y="75"/>
                  <a:pt x="862" y="45"/>
                </a:cubicBezTo>
                <a:cubicBezTo>
                  <a:pt x="877" y="15"/>
                  <a:pt x="824" y="7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9"/>
          <p:cNvSpPr/>
          <p:nvPr/>
        </p:nvSpPr>
        <p:spPr>
          <a:xfrm>
            <a:off x="5796000" y="4724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6300720" y="5445000"/>
            <a:ext cx="287280" cy="289080"/>
          </a:xfrm>
          <a:prstGeom prst="cube">
            <a:avLst>
              <a:gd name="adj" fmla="val 250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1"/>
          <p:cNvSpPr/>
          <p:nvPr/>
        </p:nvSpPr>
        <p:spPr>
          <a:xfrm>
            <a:off x="7020000" y="5445000"/>
            <a:ext cx="431640" cy="360360"/>
          </a:xfrm>
          <a:prstGeom prst="can">
            <a:avLst>
              <a:gd name="adj" fmla="val 250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12"/>
          <p:cNvCxnSpPr/>
          <p:nvPr/>
        </p:nvCxnSpPr>
        <p:spPr>
          <a:xfrm>
            <a:off x="1258560" y="5877000"/>
            <a:ext cx="37080" cy="2160"/>
          </a:xfrm>
          <a:prstGeom prst="bentConnector4">
            <a:avLst>
              <a:gd name="adj1" fmla="val 11277450"/>
              <a:gd name="adj2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AutoShape 13">
            <a:hlinkClick r:id="" action="ppaction://hlinkshowjump?jump=previousslide"/>
          </p:cNvPr>
          <p:cNvSpPr/>
          <p:nvPr/>
        </p:nvSpPr>
        <p:spPr>
          <a:xfrm>
            <a:off x="5651640" y="6381720"/>
            <a:ext cx="433080" cy="216000"/>
          </a:xfrm>
          <a:custGeom>
            <a:avLst/>
            <a:gdLst>
              <a:gd name="textAreaLeft" fmla="*/ 13680 w 433080"/>
              <a:gd name="textAreaRight" fmla="*/ 419400 w 433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4629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4">
            <a:hlinkClick r:id="" action="ppaction://hlinkshowjump?jump=nextslide"/>
          </p:cNvPr>
          <p:cNvSpPr/>
          <p:nvPr/>
        </p:nvSpPr>
        <p:spPr>
          <a:xfrm>
            <a:off x="673272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Stefan Banica Jr &amp; Horia Brenciu - Mie Dor De Ochii Tai  www.Top-Muzica.net.mp3" descr=""/>
          <p:cNvPicPr/>
          <p:nvPr/>
        </p:nvPicPr>
        <p:blipFill>
          <a:blip r:embed="rId2"/>
          <a:stretch/>
        </p:blipFill>
        <p:spPr>
          <a:xfrm>
            <a:off x="788508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0307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780320" cy="54007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611280" y="260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FEREASTRA DE EDITARE A IMAGIN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3314880" cy="485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0" y="4594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s.1)   </a:t>
            </a:r>
            <a:r>
              <a:rPr b="1" lang="en-US" sz="2000" spc="-1" strike="noStrike">
                <a:solidFill>
                  <a:srgbClr val="ff9900"/>
                </a:solidFill>
                <a:latin typeface="Lucida Sans Unicode"/>
              </a:rPr>
              <a:t>derularea efectiva a secventei animate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are loc odata cu selectarea optiunii 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Lucida Sans Unicode"/>
              </a:rPr>
              <a:t>Expunere diapozitive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1" i="1" lang="en-US" sz="2000" spc="-1" strike="noStrike">
                <a:solidFill>
                  <a:srgbClr val="3333cc"/>
                </a:solidFill>
                <a:latin typeface="Lucida Sans Unicode"/>
              </a:rPr>
              <a:t>Vizualizare expune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Lucida Sans Unicode"/>
              </a:rPr>
              <a:t>2)trebuie precizat modul de utilizare a secventelor sonore:</a:t>
            </a:r>
            <a:r>
              <a:rPr b="1" i="1" lang="en-US" sz="2000" spc="-1" strike="noStrike">
                <a:solidFill>
                  <a:srgbClr val="3333cc"/>
                </a:solidFill>
                <a:latin typeface="Lucida Sans Unicode"/>
              </a:rPr>
              <a:t>automat </a:t>
            </a:r>
            <a:r>
              <a:rPr b="1" lang="en-US" sz="2000" spc="-1" strike="noStrike">
                <a:solidFill>
                  <a:srgbClr val="ff9900"/>
                </a:solidFill>
                <a:latin typeface="Lucida Sans Unicode"/>
              </a:rPr>
              <a:t> sau </a:t>
            </a:r>
            <a:r>
              <a:rPr b="1" i="1" lang="en-US" sz="2000" spc="-1" strike="noStrike">
                <a:solidFill>
                  <a:srgbClr val="3333cc"/>
                </a:solidFill>
                <a:latin typeface="Lucida Sans Unicode"/>
              </a:rPr>
              <a:t>clic cu mouse-ul/simbolul difuzorulu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-189000" y="-6480"/>
            <a:ext cx="8425080" cy="865440"/>
          </a:xfrm>
          <a:prstGeom prst="rect">
            <a:avLst/>
          </a:prstGeom>
          <a:ln w="0">
            <a:noFill/>
          </a:ln>
        </p:spPr>
      </p:pic>
      <p:sp>
        <p:nvSpPr>
          <p:cNvPr id="519" name="Line 4"/>
          <p:cNvSpPr/>
          <p:nvPr/>
        </p:nvSpPr>
        <p:spPr>
          <a:xfrm>
            <a:off x="2700360" y="6021360"/>
            <a:ext cx="504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1187280" y="126828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Stefan Banica Jr &amp; Horia Brenciu - Mie Dor De Ochii Tai  www.Top-Muzica.net.mp3" descr=""/>
          <p:cNvPicPr/>
          <p:nvPr/>
        </p:nvPicPr>
        <p:blipFill>
          <a:blip r:embed="rId2"/>
          <a:stretch/>
        </p:blipFill>
        <p:spPr>
          <a:xfrm>
            <a:off x="7524720" y="35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7"/>
          <p:cNvSpPr/>
          <p:nvPr/>
        </p:nvSpPr>
        <p:spPr>
          <a:xfrm>
            <a:off x="0" y="98100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era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ilme si sunet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lege optiunea do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5182920" cy="3006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G_1430.AVI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092720" cy="51735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187280" y="260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M VAZUT IN   GRECIA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Zorba-Zorba the Greek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1400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714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3499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zentar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pozitiv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pect diapozitiv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864640" cy="1311120"/>
          </a:xfrm>
          <a:prstGeom prst="rect">
            <a:avLst/>
          </a:prstGeom>
          <a:ln w="0">
            <a:noFill/>
          </a:ln>
        </p:spPr>
      </p:pic>
      <p:sp>
        <p:nvSpPr>
          <p:cNvPr id="428" name="Line 4"/>
          <p:cNvSpPr/>
          <p:nvPr/>
        </p:nvSpPr>
        <p:spPr>
          <a:xfrm>
            <a:off x="971640" y="386064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5292720" y="3860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39528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539640" y="59500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676440" y="1841400"/>
            <a:ext cx="8205480" cy="1554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"/>
          <p:cNvSpPr/>
          <p:nvPr/>
        </p:nvSpPr>
        <p:spPr>
          <a:xfrm>
            <a:off x="1619280" y="4221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44b9e8"/>
                </a:solidFill>
                <a:latin typeface="Arial"/>
              </a:rPr>
              <a:t>c)</a:t>
            </a:r>
            <a:r>
              <a:rPr b="1" i="1" lang="en-US" sz="2800" spc="-1" strike="noStrike">
                <a:solidFill>
                  <a:srgbClr val="44b9e8"/>
                </a:solidFill>
                <a:latin typeface="Arial"/>
              </a:rPr>
              <a:t>Inserarea tabelelor si diagrame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25092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Inserarea tabel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0" y="549360"/>
            <a:ext cx="63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crearea tabelului intr-un documen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ditare            Selectare              Copiere         Li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476360" y="1557360"/>
            <a:ext cx="7192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3348000" y="1557360"/>
            <a:ext cx="7192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4932360" y="1557360"/>
            <a:ext cx="5047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0" y="2205000"/>
            <a:ext cx="63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serare         Tabel          Fde dialog:se precizeaza nr.de rinduri si de colo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1403280" y="2781360"/>
            <a:ext cx="432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2556000" y="2781360"/>
            <a:ext cx="4334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0" y="3141720"/>
            <a:ext cx="604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e activeaza butonul Inser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Clic/suprafata tabeluluidin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e deplaseaza mouse-ul peste celulele tabeluluip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electeaza nr.de rinduri si coloane do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179280" y="587700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0" y="5805360"/>
            <a:ext cx="88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are tab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are              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3348000" y="6453360"/>
            <a:ext cx="7192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4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627280" cy="1657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5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2627280" cy="2016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6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54040"/>
          </a:xfrm>
          <a:prstGeom prst="rect">
            <a:avLst/>
          </a:prstGeom>
          <a:ln w="0">
            <a:noFill/>
          </a:ln>
        </p:spPr>
      </p:pic>
      <p:sp>
        <p:nvSpPr>
          <p:cNvPr id="545" name="Line 17"/>
          <p:cNvSpPr/>
          <p:nvPr/>
        </p:nvSpPr>
        <p:spPr>
          <a:xfrm flipV="1">
            <a:off x="4067280" y="1773000"/>
            <a:ext cx="2520720" cy="934920"/>
          </a:xfrm>
          <a:prstGeom prst="line">
            <a:avLst/>
          </a:prstGeom>
          <a:ln w="381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8"/>
          <p:cNvSpPr/>
          <p:nvPr/>
        </p:nvSpPr>
        <p:spPr>
          <a:xfrm flipV="1">
            <a:off x="4356000" y="3141360"/>
            <a:ext cx="2521080" cy="647640"/>
          </a:xfrm>
          <a:prstGeom prst="line">
            <a:avLst/>
          </a:prstGeom>
          <a:ln w="38160">
            <a:solidFill>
              <a:srgbClr val="ff8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9"/>
          <p:cNvSpPr/>
          <p:nvPr/>
        </p:nvSpPr>
        <p:spPr>
          <a:xfrm flipV="1">
            <a:off x="1979640" y="5373360"/>
            <a:ext cx="4248000" cy="647640"/>
          </a:xfrm>
          <a:prstGeom prst="line">
            <a:avLst/>
          </a:prstGeom>
          <a:ln w="38160">
            <a:solidFill>
              <a:srgbClr val="ff8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468360" y="26028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GRA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620640"/>
            <a:ext cx="8820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SERARE          Diapozitiv nou(se ale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ablon care contine text si dia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Clic/miniatura grafic          aplicatia Microsof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 de introducere a d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se selecteaza celulele si se introduc datele doritein locul celor pre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4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ENTER si grafic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respunzator 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 inser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uto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"/>
          <p:cNvSpPr/>
          <p:nvPr/>
        </p:nvSpPr>
        <p:spPr>
          <a:xfrm>
            <a:off x="1979640" y="765000"/>
            <a:ext cx="5032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5"/>
          <p:cNvSpPr/>
          <p:nvPr/>
        </p:nvSpPr>
        <p:spPr>
          <a:xfrm>
            <a:off x="3276720" y="1628640"/>
            <a:ext cx="5047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>
            <a:off x="324000" y="1989000"/>
            <a:ext cx="5047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7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5940360" cy="4149720"/>
          </a:xfrm>
          <a:prstGeom prst="rect">
            <a:avLst/>
          </a:prstGeom>
          <a:ln w="0">
            <a:noFill/>
          </a:ln>
        </p:spPr>
      </p:pic>
      <p:sp>
        <p:nvSpPr>
          <p:cNvPr id="554" name="Line 8"/>
          <p:cNvSpPr/>
          <p:nvPr/>
        </p:nvSpPr>
        <p:spPr>
          <a:xfrm>
            <a:off x="1116000" y="1989000"/>
            <a:ext cx="2232000" cy="309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9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09920" cy="1466640"/>
          </a:xfrm>
          <a:prstGeom prst="rect">
            <a:avLst/>
          </a:prstGeom>
          <a:ln w="0">
            <a:noFill/>
          </a:ln>
        </p:spPr>
      </p:pic>
      <p:sp>
        <p:nvSpPr>
          <p:cNvPr id="556" name="Line 10"/>
          <p:cNvSpPr/>
          <p:nvPr/>
        </p:nvSpPr>
        <p:spPr>
          <a:xfrm flipV="1">
            <a:off x="4716360" y="476280"/>
            <a:ext cx="295128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IAGRAME RELATIONALE(Nomograme</a:t>
            </a:r>
            <a:r>
              <a:rPr b="1" lang="ro-RO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 organig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250920" y="714240"/>
            <a:ext cx="889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 alege un sablon care contine titlu si diagrama                F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2</a:t>
            </a:r>
            <a:r>
              <a:rPr b="0" lang="en-US" sz="1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Dublu clic in zona aferenta diagrameisi se alege cel mai adecva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3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Se completeaza fiecare caseta text cu numele doritrespectind “ierarh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4</a:t>
            </a:r>
            <a:r>
              <a:rPr b="0" lang="en-US" sz="1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serarea unei noi celule:se selecteaza celula de baza           Bara de instru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5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Inserare Form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ordonat:se scrie nu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6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SE selecteaza cel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ordon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Black"/>
              </a:rPr>
              <a:t>P7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serare  Coechi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4"/>
          <p:cNvSpPr/>
          <p:nvPr/>
        </p:nvSpPr>
        <p:spPr>
          <a:xfrm>
            <a:off x="7020000" y="907920"/>
            <a:ext cx="576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5"/>
          <p:cNvSpPr/>
          <p:nvPr/>
        </p:nvSpPr>
        <p:spPr>
          <a:xfrm>
            <a:off x="2916360" y="3357720"/>
            <a:ext cx="576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"/>
          <p:cNvSpPr/>
          <p:nvPr/>
        </p:nvSpPr>
        <p:spPr>
          <a:xfrm>
            <a:off x="7740720" y="2637000"/>
            <a:ext cx="5032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tretch/>
        </p:blipFill>
        <p:spPr>
          <a:xfrm>
            <a:off x="3995640" y="2852640"/>
            <a:ext cx="5148360" cy="4005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64" name="Organization Chart 3"/>
          <p:cNvGrpSpPr/>
          <p:nvPr/>
        </p:nvGrpSpPr>
        <p:grpSpPr>
          <a:xfrm>
            <a:off x="1908000" y="1630440"/>
            <a:ext cx="5400360" cy="2934720"/>
            <a:chOff x="1908000" y="1630440"/>
            <a:chExt cx="5400360" cy="2934720"/>
          </a:xfrm>
        </p:grpSpPr>
        <p:cxnSp>
          <p:nvCxnSpPr>
            <p:cNvPr id="565" name="_s1028"/>
            <p:cNvCxnSpPr>
              <a:stCxn id="566" idx="0"/>
              <a:endCxn id="567" idx="2"/>
            </p:cNvCxnSpPr>
            <p:nvPr/>
          </p:nvCxnSpPr>
          <p:spPr>
            <a:xfrm flipV="1">
              <a:off x="6618960" y="3463920"/>
              <a:ext cx="216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8" name="_s1029"/>
            <p:cNvCxnSpPr>
              <a:stCxn id="569" idx="0"/>
              <a:endCxn id="570" idx="2"/>
            </p:cNvCxnSpPr>
            <p:nvPr/>
          </p:nvCxnSpPr>
          <p:spPr>
            <a:xfrm flipV="1" rot="16200000">
              <a:off x="3619440" y="3245400"/>
              <a:ext cx="367560" cy="804600"/>
            </a:xfrm>
            <a:prstGeom prst="bentConnector3">
              <a:avLst>
                <a:gd name="adj1" fmla="val 204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0"/>
            <p:cNvCxnSpPr>
              <a:stCxn id="572" idx="0"/>
              <a:endCxn id="570" idx="2"/>
            </p:cNvCxnSpPr>
            <p:nvPr/>
          </p:nvCxnSpPr>
          <p:spPr>
            <a:xfrm flipH="1" flipV="1" rot="5400000">
              <a:off x="2815920" y="3245400"/>
              <a:ext cx="367560" cy="804960"/>
            </a:xfrm>
            <a:prstGeom prst="bentConnector3">
              <a:avLst>
                <a:gd name="adj1" fmla="val 204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1"/>
            <p:cNvCxnSpPr>
              <a:stCxn id="567" idx="0"/>
              <a:endCxn id="574" idx="2"/>
            </p:cNvCxnSpPr>
            <p:nvPr/>
          </p:nvCxnSpPr>
          <p:spPr>
            <a:xfrm flipV="1" rot="16200000">
              <a:off x="5630760" y="1742400"/>
              <a:ext cx="367560" cy="1609200"/>
            </a:xfrm>
            <a:prstGeom prst="bentConnector3">
              <a:avLst>
                <a:gd name="adj1" fmla="val 203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2"/>
            <p:cNvCxnSpPr>
              <a:stCxn id="576" idx="0"/>
              <a:endCxn id="574" idx="2"/>
            </p:cNvCxnSpPr>
            <p:nvPr/>
          </p:nvCxnSpPr>
          <p:spPr>
            <a:xfrm flipV="1">
              <a:off x="5010480" y="2363400"/>
              <a:ext cx="216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3"/>
            <p:cNvCxnSpPr>
              <a:stCxn id="570" idx="0"/>
              <a:endCxn id="574" idx="2"/>
            </p:cNvCxnSpPr>
            <p:nvPr/>
          </p:nvCxnSpPr>
          <p:spPr>
            <a:xfrm flipH="1" flipV="1" rot="5400000">
              <a:off x="4022280" y="1742760"/>
              <a:ext cx="367560" cy="1609200"/>
            </a:xfrm>
            <a:prstGeom prst="bentConnector3">
              <a:avLst>
                <a:gd name="adj1" fmla="val 203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4" name="_s1034"/>
            <p:cNvSpPr/>
            <p:nvPr/>
          </p:nvSpPr>
          <p:spPr>
            <a:xfrm>
              <a:off x="4321080" y="163044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ia &amp;Vas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35"/>
            <p:cNvSpPr/>
            <p:nvPr/>
          </p:nvSpPr>
          <p:spPr>
            <a:xfrm>
              <a:off x="2712240" y="273096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hita &amp;Sil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6"/>
            <p:cNvSpPr/>
            <p:nvPr/>
          </p:nvSpPr>
          <p:spPr>
            <a:xfrm>
              <a:off x="4321080" y="273096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o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_s1037"/>
            <p:cNvSpPr/>
            <p:nvPr/>
          </p:nvSpPr>
          <p:spPr>
            <a:xfrm>
              <a:off x="5929560" y="273096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a &amp;MihaiT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38"/>
            <p:cNvSpPr/>
            <p:nvPr/>
          </p:nvSpPr>
          <p:spPr>
            <a:xfrm>
              <a:off x="1908000" y="383148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i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_s1039"/>
            <p:cNvSpPr/>
            <p:nvPr/>
          </p:nvSpPr>
          <p:spPr>
            <a:xfrm>
              <a:off x="3516480" y="383148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40"/>
            <p:cNvSpPr/>
            <p:nvPr/>
          </p:nvSpPr>
          <p:spPr>
            <a:xfrm>
              <a:off x="5929560" y="3831480"/>
              <a:ext cx="1378800" cy="733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18"/>
          <p:cNvSpPr/>
          <p:nvPr/>
        </p:nvSpPr>
        <p:spPr>
          <a:xfrm>
            <a:off x="1979640" y="1413000"/>
            <a:ext cx="504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9"/>
          <p:cNvSpPr/>
          <p:nvPr/>
        </p:nvSpPr>
        <p:spPr>
          <a:xfrm>
            <a:off x="0" y="5877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spectul diapozitivului dupa introducerea diagram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611280" y="26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b9e8"/>
                </a:solidFill>
                <a:latin typeface="Arial"/>
              </a:rPr>
              <a:t>INSERARE BUTOANE DE ACT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0" y="1052640"/>
            <a:ext cx="88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xpunere diapozi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utoane actiu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 alege din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lista un </a:t>
            </a: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tip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buton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ctiune prestabilita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sau varianta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tonului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e poate 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figura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dupa dor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2484360" y="126828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3436920" y="3933720"/>
            <a:ext cx="5707080" cy="2587680"/>
          </a:xfrm>
          <a:prstGeom prst="rect">
            <a:avLst/>
          </a:prstGeom>
          <a:ln w="0">
            <a:noFill/>
          </a:ln>
        </p:spPr>
      </p:pic>
      <p:sp>
        <p:nvSpPr>
          <p:cNvPr id="584" name="Line 6"/>
          <p:cNvSpPr/>
          <p:nvPr/>
        </p:nvSpPr>
        <p:spPr>
          <a:xfrm flipH="1">
            <a:off x="7235640" y="1268280"/>
            <a:ext cx="431640" cy="4248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flut"/>
          <p:cNvPicPr/>
          <p:nvPr/>
        </p:nvPicPr>
        <p:blipFill>
          <a:blip r:embed="rId1"/>
          <a:stretch/>
        </p:blipFill>
        <p:spPr>
          <a:xfrm>
            <a:off x="1332000" y="3860640"/>
            <a:ext cx="2928960" cy="22719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1835280" y="31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fl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">
            <a:hlinkClick r:id="rId2"/>
          </p:cNvPr>
          <p:cNvSpPr/>
          <p:nvPr/>
        </p:nvSpPr>
        <p:spPr>
          <a:xfrm>
            <a:off x="5651640" y="5373720"/>
            <a:ext cx="2160360" cy="576360"/>
          </a:xfrm>
          <a:custGeom>
            <a:avLst/>
            <a:gdLst>
              <a:gd name="textAreaLeft" fmla="*/ 37080 w 2160360"/>
              <a:gd name="textAreaRight" fmla="*/ 2123280 w 2160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926" h="21600">
                <a:moveTo>
                  <a:pt x="0" y="0"/>
                </a:moveTo>
                <a:lnTo>
                  <a:pt x="80926" y="0"/>
                </a:lnTo>
                <a:lnTo>
                  <a:pt x="80926" y="21600"/>
                </a:lnTo>
                <a:lnTo>
                  <a:pt x="0" y="21600"/>
                </a:lnTo>
                <a:close/>
              </a:path>
              <a:path fill="lightenLess" w="80926" h="21600">
                <a:moveTo>
                  <a:pt x="0" y="0"/>
                </a:moveTo>
                <a:lnTo>
                  <a:pt x="80926" y="0"/>
                </a:lnTo>
                <a:lnTo>
                  <a:pt x="79526" y="1400"/>
                </a:lnTo>
                <a:lnTo>
                  <a:pt x="1400" y="1400"/>
                </a:lnTo>
                <a:close/>
              </a:path>
              <a:path fill="darken" w="80926" h="21600">
                <a:moveTo>
                  <a:pt x="80926" y="0"/>
                </a:moveTo>
                <a:lnTo>
                  <a:pt x="80926" y="21600"/>
                </a:lnTo>
                <a:lnTo>
                  <a:pt x="79526" y="20200"/>
                </a:lnTo>
                <a:lnTo>
                  <a:pt x="79526" y="1400"/>
                </a:lnTo>
                <a:close/>
              </a:path>
              <a:path fill="darkenLess" w="80926" h="21600">
                <a:moveTo>
                  <a:pt x="8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26" y="20200"/>
                </a:lnTo>
                <a:close/>
              </a:path>
              <a:path fill="lighten" w="8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cani noroi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6300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augare text explicativ</a:t>
            </a:r>
            <a:r>
              <a:rPr b="1" lang="ro-RO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utonul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 dreapta deasup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nului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iu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aleg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ug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tasteaza textul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3"/>
          <a:stretch/>
        </p:blipFill>
        <p:spPr>
          <a:xfrm>
            <a:off x="5364000" y="0"/>
            <a:ext cx="3581640" cy="5013360"/>
          </a:xfrm>
          <a:prstGeom prst="rect">
            <a:avLst/>
          </a:prstGeom>
          <a:ln w="0">
            <a:noFill/>
          </a:ln>
        </p:spPr>
      </p:pic>
      <p:sp>
        <p:nvSpPr>
          <p:cNvPr id="590" name="Line 7"/>
          <p:cNvSpPr/>
          <p:nvPr/>
        </p:nvSpPr>
        <p:spPr>
          <a:xfrm>
            <a:off x="1187280" y="1125360"/>
            <a:ext cx="5032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771640" y="1197000"/>
            <a:ext cx="2664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332000" y="2349360"/>
            <a:ext cx="4752720" cy="2374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2916360" y="1700280"/>
            <a:ext cx="2447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7272360" cy="59500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0" y="189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ereastra de setari pentru actiunea buton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Rectangle 2" descr=""/>
          <p:cNvPicPr/>
          <p:nvPr/>
        </p:nvPicPr>
        <p:blipFill>
          <a:blip r:embed="rId1"/>
          <a:stretch/>
        </p:blipFill>
        <p:spPr>
          <a:xfrm>
            <a:off x="676440" y="1841400"/>
            <a:ext cx="8205480" cy="155412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4"/>
          <p:cNvSpPr/>
          <p:nvPr/>
        </p:nvSpPr>
        <p:spPr>
          <a:xfrm>
            <a:off x="755640" y="4076640"/>
            <a:ext cx="83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d)UTILIZAREA EFECTELOR DE </a:t>
            </a:r>
            <a:r>
              <a:rPr b="1" i="1" lang="ro-RO" sz="2800" spc="-1" strike="noStrike">
                <a:solidFill>
                  <a:srgbClr val="ff3300"/>
                </a:solidFill>
                <a:latin typeface="Arial"/>
                <a:ea typeface="Arial"/>
              </a:rPr>
              <a:t>ANIMA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Ț</a:t>
            </a:r>
            <a:r>
              <a:rPr b="1" i="1" lang="ro-RO" sz="2800" spc="-1" strike="noStrike">
                <a:solidFill>
                  <a:srgbClr val="ff3300"/>
                </a:solidFill>
                <a:latin typeface="Arial"/>
                <a:ea typeface="Arial"/>
              </a:rPr>
              <a:t>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r>
              <a:rPr b="1" i="1" lang="ro-RO" sz="2800" spc="-1" strike="noStrike">
                <a:solidFill>
                  <a:srgbClr val="ff3300"/>
                </a:solidFill>
                <a:latin typeface="Arial"/>
                <a:ea typeface="Arial"/>
              </a:rPr>
              <a:t>TRANZITIE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INTRE</a:t>
            </a:r>
            <a:r>
              <a:rPr b="1" i="1" lang="ro-RO" sz="2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DIAPOZ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0" y="44370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Arial"/>
                <a:ea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"/>
              </a:rPr>
              <a:t>EXPUNERE DIAPOZITIV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"/>
              </a:rPr>
              <a:t>EFECTE DE ANIMATI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i="1" lang="ro-RO" sz="2400" spc="-1" strike="noStrike">
                <a:solidFill>
                  <a:srgbClr val="da1f28"/>
                </a:solidFill>
                <a:latin typeface="Arial"/>
                <a:ea typeface="Arial"/>
              </a:rPr>
              <a:t>lista cu efecte de </a:t>
            </a:r>
            <a:r>
              <a:rPr b="1" i="1" lang="en-US" sz="2400" spc="-1" strike="noStrike">
                <a:solidFill>
                  <a:srgbClr val="da1f28"/>
                </a:solidFill>
                <a:latin typeface="Arial"/>
                <a:ea typeface="Arial"/>
              </a:rPr>
              <a:t>animatie: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e alege schema de animatie dori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Redar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8244000" y="5589720"/>
            <a:ext cx="4334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3780000" y="5661000"/>
            <a:ext cx="79200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1042920" y="6381720"/>
            <a:ext cx="43344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68360" y="26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0" y="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99ff"/>
                </a:solidFill>
                <a:latin typeface="Arial"/>
                <a:ea typeface="Arial"/>
              </a:rPr>
              <a:t>c)UTILIZAREA EFECTELOR DE ANIM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costume"/>
          <p:cNvPicPr/>
          <p:nvPr/>
        </p:nvPicPr>
        <p:blipFill>
          <a:blip r:embed="rId1"/>
          <a:stretch/>
        </p:blipFill>
        <p:spPr>
          <a:xfrm>
            <a:off x="539640" y="256536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"/>
          <p:cNvPicPr/>
          <p:nvPr/>
        </p:nvPicPr>
        <p:blipFill>
          <a:blip r:embed="rId2"/>
          <a:stretch/>
        </p:blipFill>
        <p:spPr>
          <a:xfrm>
            <a:off x="2124000" y="549360"/>
            <a:ext cx="7020000" cy="4664160"/>
          </a:xfrm>
          <a:prstGeom prst="rect">
            <a:avLst/>
          </a:prstGeom>
          <a:ln w="0">
            <a:noFill/>
          </a:ln>
        </p:spPr>
      </p:pic>
      <p:sp>
        <p:nvSpPr>
          <p:cNvPr id="607" name="Line 10"/>
          <p:cNvSpPr/>
          <p:nvPr/>
        </p:nvSpPr>
        <p:spPr>
          <a:xfrm flipV="1">
            <a:off x="2124000" y="4076640"/>
            <a:ext cx="5904000" cy="1873440"/>
          </a:xfrm>
          <a:prstGeom prst="line">
            <a:avLst/>
          </a:prstGeom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6084720" y="0"/>
            <a:ext cx="2889360" cy="6769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2998800" cy="55436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179280" y="333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area optiunii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Aspect diapozi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4932360" y="3716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3924360" y="400536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 flipV="1">
            <a:off x="2987640" y="2707920"/>
            <a:ext cx="3672000" cy="23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0" y="5721480"/>
            <a:ext cx="6084720" cy="1145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pozitivu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at apare in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h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geti primul diapozi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0" y="44370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Arial"/>
                <a:ea typeface="Arial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"/>
              </a:rPr>
              <a:t>EXPUNERE DIAPOZI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Animatie particulari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o-RO" sz="2400" spc="-1" strike="noStrike">
                <a:solidFill>
                  <a:srgbClr val="ff6600"/>
                </a:solidFill>
                <a:latin typeface="Arial"/>
                <a:ea typeface="Arial"/>
              </a:rPr>
              <a:t>Adaugare 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3924360" y="5157720"/>
            <a:ext cx="792000" cy="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j0332364"/>
          <p:cNvPicPr/>
          <p:nvPr/>
        </p:nvPicPr>
        <p:blipFill>
          <a:blip r:embed="rId1"/>
          <a:stretch/>
        </p:blipFill>
        <p:spPr>
          <a:xfrm>
            <a:off x="395280" y="263700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2411280" y="0"/>
            <a:ext cx="6732720" cy="4797360"/>
          </a:xfrm>
          <a:prstGeom prst="rect">
            <a:avLst/>
          </a:prstGeom>
          <a:ln w="0">
            <a:noFill/>
          </a:ln>
        </p:spPr>
      </p:pic>
      <p:sp>
        <p:nvSpPr>
          <p:cNvPr id="612" name="Line 6"/>
          <p:cNvSpPr/>
          <p:nvPr/>
        </p:nvSpPr>
        <p:spPr>
          <a:xfrm>
            <a:off x="324000" y="5805360"/>
            <a:ext cx="792000" cy="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 flipV="1">
            <a:off x="2411280" y="1915920"/>
            <a:ext cx="5761080" cy="3889080"/>
          </a:xfrm>
          <a:prstGeom prst="line">
            <a:avLst/>
          </a:prstGeom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539640" y="404640"/>
            <a:ext cx="86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179280" y="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99ff"/>
                </a:solidFill>
                <a:latin typeface="Arial"/>
                <a:ea typeface="Arial"/>
              </a:rPr>
              <a:t>EFECTE DE TRANZITIE INTRE  DIAPOZ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79280" y="544500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99ff"/>
                </a:solidFill>
                <a:latin typeface="Arial"/>
                <a:ea typeface="Arial"/>
              </a:rPr>
              <a:t>Expunere diapozitiv                     Tranzitie diapozitiv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r>
              <a:rPr b="1" lang="ro-RO" sz="2400" spc="-1" strike="noStrike">
                <a:solidFill>
                  <a:srgbClr val="3399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ereastra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t</a:t>
            </a:r>
            <a:r>
              <a:rPr b="1" i="1" lang="ro-RO" sz="2400" spc="-1" strike="noStrike">
                <a:solidFill>
                  <a:srgbClr val="3399ff"/>
                </a:solidFill>
                <a:latin typeface="Arial"/>
                <a:ea typeface="Arial"/>
              </a:rPr>
              <a:t>ranzitie</a:t>
            </a:r>
            <a:r>
              <a:rPr b="1" i="1" lang="ro-RO" sz="24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r>
              <a:rPr b="1" i="1" lang="ro-RO" sz="2400" spc="-1" strike="noStrike">
                <a:solidFill>
                  <a:srgbClr val="3399ff"/>
                </a:solidFill>
                <a:latin typeface="Arial"/>
                <a:ea typeface="Arial"/>
              </a:rPr>
              <a:t>diapozitiv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alege :optiunea dorita,viteza,avansare diapozi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3276720" y="5734080"/>
            <a:ext cx="1511280" cy="0"/>
          </a:xfrm>
          <a:prstGeom prst="line">
            <a:avLst/>
          </a:prstGeom>
          <a:ln w="381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59640" cy="4419720"/>
          </a:xfrm>
          <a:prstGeom prst="rect">
            <a:avLst/>
          </a:prstGeom>
          <a:ln w="0">
            <a:noFill/>
          </a:ln>
        </p:spPr>
      </p:pic>
      <p:sp>
        <p:nvSpPr>
          <p:cNvPr id="619" name="Line 7"/>
          <p:cNvSpPr/>
          <p:nvPr/>
        </p:nvSpPr>
        <p:spPr>
          <a:xfrm flipV="1">
            <a:off x="6372360" y="3428640"/>
            <a:ext cx="1295280" cy="280836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 flipV="1">
            <a:off x="1619280" y="5084280"/>
            <a:ext cx="5832360" cy="158436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9"/>
          <p:cNvSpPr/>
          <p:nvPr/>
        </p:nvSpPr>
        <p:spPr>
          <a:xfrm flipV="1">
            <a:off x="755640" y="1700280"/>
            <a:ext cx="6589800" cy="446544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892920" cy="51688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7"/>
          <p:cNvSpPr/>
          <p:nvPr/>
        </p:nvSpPr>
        <p:spPr>
          <a:xfrm>
            <a:off x="1258920" y="1197000"/>
            <a:ext cx="561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395280" y="189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468360" y="189000"/>
            <a:ext cx="71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1Selectarea aspectului primului diapozi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7308720" y="350028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ect diapozi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 flipH="1" flipV="1">
            <a:off x="6804000" y="3213000"/>
            <a:ext cx="72072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1835280" y="5213520"/>
            <a:ext cx="7308720" cy="1649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.!!!De regula primul diapozitiv al prezentarii contin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itlul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cesteia si un eventu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ubtitlu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In diapozitivele urmatoare se poate introduc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u ,pe coloane,cu marcatori de lis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 pot import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agini ,tabele,grafi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asindu-le  in locul prestabili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au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plasindu-le prin drag and dr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 poate renunta la unul dintre elementele sablonului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c+Del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4932360" y="549360"/>
            <a:ext cx="83196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pect diapozitiv         forma diapozitiv        Clic/sablonul dori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a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Lucida Sans Unicode"/>
              </a:rPr>
              <a:t>Rasfoit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alegeti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alte sabloa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Rectangle 6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7444080" cy="1616040"/>
          </a:xfrm>
          <a:prstGeom prst="rect">
            <a:avLst/>
          </a:prstGeom>
          <a:ln w="0">
            <a:noFill/>
          </a:ln>
        </p:spPr>
      </p:pic>
      <p:sp>
        <p:nvSpPr>
          <p:cNvPr id="449" name="Line 8"/>
          <p:cNvSpPr/>
          <p:nvPr/>
        </p:nvSpPr>
        <p:spPr>
          <a:xfrm>
            <a:off x="2340000" y="4221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9"/>
          <p:cNvSpPr/>
          <p:nvPr/>
        </p:nvSpPr>
        <p:spPr>
          <a:xfrm>
            <a:off x="0" y="458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6381720"/>
          </a:xfrm>
          <a:prstGeom prst="rect">
            <a:avLst/>
          </a:prstGeom>
          <a:ln w="0">
            <a:noFill/>
          </a:ln>
        </p:spPr>
      </p:pic>
      <p:sp>
        <p:nvSpPr>
          <p:cNvPr id="452" name="Line 13"/>
          <p:cNvSpPr/>
          <p:nvPr/>
        </p:nvSpPr>
        <p:spPr>
          <a:xfrm>
            <a:off x="4284720" y="5516640"/>
            <a:ext cx="259236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1692360" y="6308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324000" y="6078600"/>
            <a:ext cx="5184720" cy="785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lonul de form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lectat apare in ch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 flipV="1">
            <a:off x="4140360" y="2276640"/>
            <a:ext cx="4103640" cy="1800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9640" y="907560"/>
            <a:ext cx="7631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Lucida Sans Unicode"/>
              </a:rPr>
              <a:t>Forma diapozitiv         scheme culo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7139160" cy="1616040"/>
          </a:xfrm>
          <a:prstGeom prst="rect">
            <a:avLst/>
          </a:prstGeom>
          <a:ln w="0">
            <a:noFill/>
          </a:ln>
        </p:spPr>
      </p:pic>
      <p:sp>
        <p:nvSpPr>
          <p:cNvPr id="458" name="Line 4"/>
          <p:cNvSpPr/>
          <p:nvPr/>
        </p:nvSpPr>
        <p:spPr>
          <a:xfrm>
            <a:off x="2916360" y="191628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0" y="2276640"/>
            <a:ext cx="86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9e8"/>
                </a:solidFill>
                <a:latin typeface="Arial"/>
              </a:rPr>
              <a:t>Obs:1.se pot schimba culor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tl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subtitl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textului de b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marcato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culoarea de fun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24000" y="4797360"/>
            <a:ext cx="86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.Culorile pot fi alese d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riantele standard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sau 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  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ditare scheme cul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1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Line 12"/>
          <p:cNvSpPr/>
          <p:nvPr/>
        </p:nvSpPr>
        <p:spPr>
          <a:xfrm flipV="1">
            <a:off x="4643280" y="907920"/>
            <a:ext cx="22338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>
            <a:off x="5580000" y="5445000"/>
            <a:ext cx="115272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572000" cy="40658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4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troducerea textului  aferent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apozitiv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95280" y="1125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b9e8"/>
                </a:solidFill>
                <a:latin typeface="Arial"/>
              </a:rPr>
              <a:t>Faceti clic pentru adaugare d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0672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1725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108000" y="105264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i o prezentare despre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Albert Einstein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are să respecte următoarele cerinţ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să conţină 4 diapoz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primul diapozitiv : o poză , numele şi perioada în care a tră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al II-lea : scurtă bibliografie 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al III-lea : marile sale realizări ştiinţifice în ordine cronolog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al IV-lea : citate filozofice scrise de Ein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a1f28"/>
                </a:solidFill>
                <a:latin typeface="Arial"/>
              </a:rPr>
              <a:t>Fiecare slide să aibă o altă nuanţă de culo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-6480" y="-324000"/>
            <a:ext cx="6883560" cy="16164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 alte elemente credeti ca ar trebui sa contina slid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urile pentru a atrage atentia,pentru ca impactul asupra publicului sa fie mai ma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1:13:20Z</dcterms:created>
  <dc:creator>vb</dc:creator>
  <dc:description/>
  <dc:language>en-US</dc:language>
  <cp:lastModifiedBy>1971m</cp:lastModifiedBy>
  <dcterms:modified xsi:type="dcterms:W3CDTF">2012-01-15T13:02:29Z</dcterms:modified>
  <cp:revision>57</cp:revision>
  <dc:subject/>
  <dc:title>Diapozitivul 1</dc:title>
</cp:coreProperties>
</file>